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237-6B9E-4660-98C0-6E57615A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FC7-99C1-46BA-A864-544A5E4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8C4-60A5-4B45-85E7-D91094B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2EF-4166-4E1A-96F7-8770130A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11A-61BF-4DBD-B0B2-8AA4BD5E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D33-A153-42F5-953E-1D65DA7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35E-DABF-4A55-B139-C3F8C1F4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D62-2056-4839-917C-E59553E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98E-E20F-4471-827E-BFBF6F0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515-F0D8-4DB7-AC41-4DC326A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3AF-634A-4920-8569-E1EF913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F2F-71DE-45F9-B2AC-485E4B2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B1C-8996-4397-90F1-AAD2CFE56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7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Rectangle 1027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28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M. Pierre, chef du 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29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19/09/0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30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La banque de Bel Air reçoit plusieurs centaines de lettres de ses clients chaque jour. Personne n’a la visibilité sur ces courriers et encore moins sur les réponses qui y sont apportées… ou pas ! Ceci est grave dans un contexte de forte concurrence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31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Il serait souhaitable de réorganiser ce processus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32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ation de la qualité perçue par les clients et sécurisation du processu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33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Toutes les directions du siège sont concernées par ce processus, y compris la direction génér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4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élai de traitement et exhaustivité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5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er le processus au détriment de la qualité technique et commerciale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36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iversité des acteurs, des thèmes des courriers et nombre de courrie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7:49Z</dcterms:modified>
  <cp:revision>102</cp:revision>
  <dc:subject/>
  <dc:title>Présentation PowerPoint</dc:title>
</cp:coreProperties>
</file>